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9B7-FDB5-4D11-8609-63126161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A04-3906-4A87-91C9-911AACB0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E15-FD5F-4DCE-A9E4-D499C306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649-7BD2-42FA-A2EA-9A46E047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310B-2B6E-4A34-80A8-380EAC36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74D0-4D33-45D8-ACD5-742E8BC2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A32E-9503-4713-A9D3-9386D1D2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D442-D281-40E6-AC2F-3FFE7495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0337-022B-4634-B253-863D9873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4091-D168-4DDA-961E-4CCA97FA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79BE-9340-4C9D-8E75-2AD2286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CB0-BA42-495D-8BC3-00964A93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7337-CAA2-4588-A9AD-07F1F72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E5AD-5460-43B1-B18A-25871F7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3D0D-2F26-4281-8DBC-A643800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4676-0C65-4151-9F86-59C22809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40DF-E287-4507-92F3-B0F60AAE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535-56E3-498A-AB9D-DE23F0D0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C91-909F-4F88-B5C5-5B529C06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E80-9D7D-4C68-8B43-7FE5F25E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D78-401A-409B-B929-B2270F89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A61-F253-48B1-8C8B-E1C780C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F92-D7E2-4C9E-AD91-5CB173C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8F5-5ED3-4324-9C22-B02E2BFE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3D8F-1381-4B30-81A9-82850DBD18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A817-0A4B-4770-8348-E1F3778B06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photographer.ru/nonstop/pics/pictures/623/62344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arhya.od.ua/_nw/0/s4083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46080" y="1794960"/>
            <a:ext cx="5927400" cy="195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Деревянное зодчество Древней Рус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386064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рагмент веранд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367344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ин из наиболее распространенных в Заонежье домов-комплексов, получивших название "кошель". Под одной крышей объединены избы, кладовые, сараи, скотные дворы с хлевом и сеновалы. Нарядная часть дома, обращенная к озеру, отводилась под                           жил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Дом Ошевнева (фрагмент веранды), 1876. Деревня Ошевнево"/>
          <p:cNvPicPr/>
          <p:nvPr/>
        </p:nvPicPr>
        <p:blipFill>
          <a:blip r:embed="rId1"/>
          <a:stretch/>
        </p:blipFill>
        <p:spPr>
          <a:xfrm>
            <a:off x="3851280" y="2349360"/>
            <a:ext cx="510840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здальский хра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672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Русское средневековое зодчество - одна из наиболее ярких страниц в истории культуры Руси. Памятники архитектуры наполняют живым, образным содержанием наши представления о развитии культуры, помогают понять многие стороны истории, не нашедшие отражения в письменных источника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2" descr="Картинка 1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1628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изуч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рия зодчества Древней Руси - молодая наука. Еще в XVIII в. памятники древнерусской архитектуры обычно называли готическими. Сам термин свидетельствует, что памятники эти отличали от построек античного и нового времени, но не отделяли от архитектуры других стран, не видели национальной специфики русского зодчества. Средневековые памятники в продолжение всего XVIII в. считали варварскими, памятниками дурного вкуса, недо­стойными изуч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Картинка 15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1341360"/>
            <a:ext cx="383364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Часовня Михаила Архангела, XVII-XVI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414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овня Архангела Михаила из деревни Леликозеро - одна из архитектурных жемчужин Русского Севера. Кроме того, как и многие другие часовни, она была самым красивым строением деревни и дарила жителям немало светлых, праздничных мину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Часовня Михаила Архангела, XVII-XVIII в."/>
          <p:cNvPicPr/>
          <p:nvPr/>
        </p:nvPicPr>
        <p:blipFill>
          <a:blip r:embed="rId1"/>
          <a:stretch/>
        </p:blipFill>
        <p:spPr>
          <a:xfrm>
            <a:off x="4067280" y="2060640"/>
            <a:ext cx="4309920" cy="32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знесенская кубоватая церковь, 1669 г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4065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обережье Белого моря тип кубоватого храма был широко распространен. Кубом называют сложную форму покрытия, напоминающую четырехгранную луковицу. Отличительная особенность архитектурного облика северных кубоватых церквей - их красота, изящество и гармо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Вознесенская кубоватая церковь, 1669 г. Село Кушерека Онежского района"/>
          <p:cNvPicPr/>
          <p:nvPr/>
        </p:nvPicPr>
        <p:blipFill>
          <a:blip r:embed="rId1"/>
          <a:stretch/>
        </p:blipFill>
        <p:spPr>
          <a:xfrm>
            <a:off x="324000" y="1700280"/>
            <a:ext cx="355104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-двор Русиновой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синовы - богатая купеческая семья XVII века. Точное время постройки сохранившихся палат неизвестно; предположительно, они были поставлены в середине XVII столе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Дом-двор Русиновой. Деревня Кондратьевская."/>
          <p:cNvPicPr/>
          <p:nvPr/>
        </p:nvPicPr>
        <p:blipFill>
          <a:blip r:embed="rId1"/>
          <a:stretch/>
        </p:blipFill>
        <p:spPr>
          <a:xfrm>
            <a:off x="4211640" y="2060640"/>
            <a:ext cx="4932360" cy="3611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асовня Трех Святителей, XVII в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42829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самом высоком холме лесистой местности в Кондопожском районе Карелии когда-то располагалась деревня Кавгора. Здесь, окруженная кольцом валунов, в соседстве с елями-великанами высилась часовня Трех святителей: Василия Великого, Иоанна Златоуста, Григория Богосло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Часовня Трех Святителей, XVII в. Деревня Кавгора"/>
          <p:cNvPicPr/>
          <p:nvPr/>
        </p:nvPicPr>
        <p:blipFill>
          <a:blip r:embed="rId1"/>
          <a:stretch/>
        </p:blipFill>
        <p:spPr>
          <a:xfrm>
            <a:off x="684360" y="1700280"/>
            <a:ext cx="36018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mic Sans MS"/>
              </a:rPr>
              <a:t>Дом Сергеевой из деревни Липовицы, конец XIX - начало XX вв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349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ипичный заонежский дом, построенный на рубеже веков, в котором старинные конструктивные приемы сочетаются с новыми тенденциями деревянного зодчества. Прекрасный образец народного строительного искус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Дом Сергеевой из деревни Липовицы, конец XIX - начало XX вв."/>
          <p:cNvPicPr/>
          <p:nvPr/>
        </p:nvPicPr>
        <p:blipFill>
          <a:blip r:embed="rId1"/>
          <a:stretch/>
        </p:blipFill>
        <p:spPr>
          <a:xfrm>
            <a:off x="4464000" y="1844640"/>
            <a:ext cx="468000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рхитектурный ансамбль Спасского Кижского погоста, XV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"Погост Спасский на Кижах на Онеге озере. А на погосте церковь Преображенье спасово, а другая церковь Покров Святии Богородицы" (из писцовой книги московского дьяка Андрея Плещеева о заонежских погостах 1582-1583 гг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Архитектурный ансамбль Спасского Кижского погоста, XVII в."/>
          <p:cNvPicPr/>
          <p:nvPr/>
        </p:nvPicPr>
        <p:blipFill>
          <a:blip r:embed="rId1"/>
          <a:stretch/>
        </p:blipFill>
        <p:spPr>
          <a:xfrm>
            <a:off x="179280" y="2060640"/>
            <a:ext cx="4608720" cy="41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8:47:45Z</dcterms:created>
  <dc:creator>Admin</dc:creator>
  <dc:description/>
  <dc:language>en-US</dc:language>
  <cp:lastModifiedBy>0</cp:lastModifiedBy>
  <dcterms:modified xsi:type="dcterms:W3CDTF">2020-11-27T09:58:35Z</dcterms:modified>
  <cp:revision>10</cp:revision>
  <dc:subject/>
  <dc:title>Золотое сечение в архитектуре.</dc:title>
</cp:coreProperties>
</file>